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BB7A-C38A-4FDA-AEFE-658B2F6930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25F4-932C-49B3-BBC2-D47E16DD2A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3B65-7E1D-4E6B-B107-F18CF41C17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8 Waveforms on BHFF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w know depth ~2.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HHF/BAVH  12/4/2011   to  25/1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PRH/BEVW  29/6/2011  to  23/11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KL1              7/4/2011  to   9/4/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11DD-16DA-4303-A3A2-47099665C5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lkestone one is 2009 mag3 – 2007 saturated T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EA5C-0427-4961-A374-45BC43180D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5% improv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1FB3-0634-4DBA-AD97-E2D3AD4E5B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256C-A290-4B3C-B924-C57D4433F2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urements beyond 12 km will be altered by less than 0.1.  For Amatrice the equivalent distance is 20km and for the NEONOR2 data, it is 22 k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C15C-377B-46D4-8BD1-147A03CC63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A27-CDAC-47F4-9514-CDCFFA71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4C8-6DA9-4466-B1E2-C50E8292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7CE-4FD6-48C2-823B-F0AFEF23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3FB-BF39-4AFA-874B-2C2BAD8E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CF3-6633-4666-9113-FAEAD2C3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C55-9572-4314-846E-CA7DA613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826-1CAA-4159-B2F5-9DDD61EE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BFF-EAB2-48D1-8673-059BC769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C1B-BB50-49F6-A99F-7792E476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9897-E0A2-4706-B8D4-DD3FDAC1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6F1-2AF1-41E7-A3AE-B7D63FD2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E23-B607-4AB7-BE0F-8238D4B8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971B-54E1-4D02-80B9-80DF47F58F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inal_slid mast20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4840" y="106632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4520" y="6553080"/>
            <a:ext cx="20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C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inal_slid mast20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4520" y="6553080"/>
            <a:ext cx="20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C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final_ppttemplate2003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7040" y="5486400"/>
            <a:ext cx="197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rchison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st Mains 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dinburgh EH9 3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 0131 667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74520" y="6553080"/>
            <a:ext cx="203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C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4840" y="106632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rl@bgs.ac.uk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" y="2017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cal magnitudes at short distances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77560" y="3251160"/>
            <a:ext cx="8597880" cy="11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chard Lucket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990099"/>
                </a:solidFill>
                <a:uFillTx/>
                <a:latin typeface="Arial"/>
                <a:hlinkClick r:id="rId1"/>
              </a:rPr>
              <a:t>rrl@bgs.ac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s Ottemöll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s.ottemoller@uib.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ian Bapti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bap@bgs.ac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tony Butc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tony.butcher@bristol.ac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39680" y="5495760"/>
            <a:ext cx="1965240" cy="1035360"/>
          </a:xfrm>
          <a:prstGeom prst="rect">
            <a:avLst/>
          </a:prstGeom>
          <a:solidFill>
            <a:srgbClr val="fdf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3862440" y="6135840"/>
            <a:ext cx="1935000" cy="583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"/>
          <p:cNvPicPr/>
          <p:nvPr/>
        </p:nvPicPr>
        <p:blipFill>
          <a:blip r:embed="rId3"/>
          <a:stretch/>
        </p:blipFill>
        <p:spPr>
          <a:xfrm>
            <a:off x="6434280" y="6122880"/>
            <a:ext cx="7380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295200" y="1114560"/>
            <a:ext cx="8391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cal magnitude scales used in the UK and elsewhere are not suitable to calculate magnitudes from near source amplitude observ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cularly problematic for small events only recorded by nearby 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ddition of an extra, exponential, term results in near source magnitudes agreeing with those at other 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stants associated with the new term are different in different reg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ibly a result of a different phase having the highest amplitude near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results in a single scale applicable at all distances that does not change the vast majority of existing catalogue magnitu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8"/>
          <p:cNvSpPr/>
          <p:nvPr/>
        </p:nvSpPr>
        <p:spPr>
          <a:xfrm>
            <a:off x="176040" y="861840"/>
            <a:ext cx="324828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gnitude 2.3 ML earthquake at 02:34 on 1st April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4 temporary stations installed April/M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58 more events detected, all sma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ly 2 of these, on 2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nd 2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May, were also recorded at more distant s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ilarity of waveforms suggests a highly repeatable source so locations assumed to be the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lackpool Earthqu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stations_used"/>
          <p:cNvPicPr/>
          <p:nvPr/>
        </p:nvPicPr>
        <p:blipFill>
          <a:blip r:embed="rId1"/>
          <a:srcRect l="0" t="0" r="891" b="0"/>
          <a:stretch/>
        </p:blipFill>
        <p:spPr>
          <a:xfrm>
            <a:off x="3492360" y="861840"/>
            <a:ext cx="2927520" cy="2953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blackpool_stations"/>
          <p:cNvPicPr/>
          <p:nvPr/>
        </p:nvPicPr>
        <p:blipFill>
          <a:blip r:embed="rId2"/>
          <a:srcRect l="0" t="0" r="0" b="36687"/>
          <a:stretch/>
        </p:blipFill>
        <p:spPr>
          <a:xfrm>
            <a:off x="5151600" y="3292560"/>
            <a:ext cx="388440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10"/>
          <p:cNvGrpSpPr/>
          <p:nvPr/>
        </p:nvGrpSpPr>
        <p:grpSpPr>
          <a:xfrm>
            <a:off x="1488960" y="2413080"/>
            <a:ext cx="5477040" cy="3749760"/>
            <a:chOff x="1488960" y="2413080"/>
            <a:chExt cx="5477040" cy="3749760"/>
          </a:xfrm>
        </p:grpSpPr>
        <p:pic>
          <p:nvPicPr>
            <p:cNvPr id="141" name="Picture 4" descr="Preese_magnitude_scale.png"/>
            <p:cNvPicPr/>
            <p:nvPr/>
          </p:nvPicPr>
          <p:blipFill>
            <a:blip r:embed="rId1"/>
            <a:srcRect l="1601" t="7380" r="8260" b="0"/>
            <a:stretch/>
          </p:blipFill>
          <p:spPr>
            <a:xfrm>
              <a:off x="1488960" y="2413080"/>
              <a:ext cx="5477040" cy="374976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42" name="5-Point Star 5"/>
            <p:cNvSpPr/>
            <p:nvPr/>
          </p:nvSpPr>
          <p:spPr>
            <a:xfrm>
              <a:off x="2438280" y="3041640"/>
              <a:ext cx="120600" cy="123840"/>
            </a:xfrm>
            <a:custGeom>
              <a:avLst/>
              <a:gdLst/>
              <a:ahLst/>
              <a:rect l="l" t="t" r="r" b="b"/>
              <a:pathLst>
                <a:path w="120627" h="123857">
                  <a:moveTo>
                    <a:pt x="0" y="47309"/>
                  </a:moveTo>
                  <a:lnTo>
                    <a:pt x="46076" y="47309"/>
                  </a:lnTo>
                  <a:lnTo>
                    <a:pt x="60314" y="0"/>
                  </a:lnTo>
                  <a:lnTo>
                    <a:pt x="74551" y="47309"/>
                  </a:lnTo>
                  <a:lnTo>
                    <a:pt x="120627" y="47309"/>
                  </a:lnTo>
                  <a:lnTo>
                    <a:pt x="83351" y="76548"/>
                  </a:lnTo>
                  <a:lnTo>
                    <a:pt x="97589" y="123857"/>
                  </a:lnTo>
                  <a:lnTo>
                    <a:pt x="60314" y="94618"/>
                  </a:lnTo>
                  <a:lnTo>
                    <a:pt x="23038" y="123857"/>
                  </a:lnTo>
                  <a:lnTo>
                    <a:pt x="37276" y="76548"/>
                  </a:lnTo>
                  <a:lnTo>
                    <a:pt x="0" y="4730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89a4a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5-Point Star 6"/>
            <p:cNvSpPr/>
            <p:nvPr/>
          </p:nvSpPr>
          <p:spPr>
            <a:xfrm>
              <a:off x="5673960" y="4600800"/>
              <a:ext cx="118800" cy="125280"/>
            </a:xfrm>
            <a:custGeom>
              <a:avLst/>
              <a:gdLst/>
              <a:ahLst/>
              <a:rect l="l" t="t" r="r" b="b"/>
              <a:pathLst>
                <a:path w="119040" h="125445">
                  <a:moveTo>
                    <a:pt x="0" y="47916"/>
                  </a:moveTo>
                  <a:lnTo>
                    <a:pt x="45469" y="47916"/>
                  </a:lnTo>
                  <a:lnTo>
                    <a:pt x="59520" y="0"/>
                  </a:lnTo>
                  <a:lnTo>
                    <a:pt x="73571" y="47916"/>
                  </a:lnTo>
                  <a:lnTo>
                    <a:pt x="119040" y="47916"/>
                  </a:lnTo>
                  <a:lnTo>
                    <a:pt x="82254" y="77529"/>
                  </a:lnTo>
                  <a:lnTo>
                    <a:pt x="96305" y="125445"/>
                  </a:lnTo>
                  <a:lnTo>
                    <a:pt x="59520" y="95831"/>
                  </a:lnTo>
                  <a:lnTo>
                    <a:pt x="22735" y="125445"/>
                  </a:lnTo>
                  <a:lnTo>
                    <a:pt x="36786" y="77529"/>
                  </a:lnTo>
                  <a:lnTo>
                    <a:pt x="0" y="4791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89a4a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5-Point Star 7"/>
            <p:cNvSpPr/>
            <p:nvPr/>
          </p:nvSpPr>
          <p:spPr>
            <a:xfrm>
              <a:off x="5802480" y="4729320"/>
              <a:ext cx="118800" cy="125280"/>
            </a:xfrm>
            <a:custGeom>
              <a:avLst/>
              <a:gdLst/>
              <a:ahLst/>
              <a:rect l="l" t="t" r="r" b="b"/>
              <a:pathLst>
                <a:path w="119039" h="125444">
                  <a:moveTo>
                    <a:pt x="0" y="47915"/>
                  </a:moveTo>
                  <a:lnTo>
                    <a:pt x="45469" y="47916"/>
                  </a:lnTo>
                  <a:lnTo>
                    <a:pt x="59520" y="0"/>
                  </a:lnTo>
                  <a:lnTo>
                    <a:pt x="73570" y="47916"/>
                  </a:lnTo>
                  <a:lnTo>
                    <a:pt x="119039" y="47915"/>
                  </a:lnTo>
                  <a:lnTo>
                    <a:pt x="82254" y="77528"/>
                  </a:lnTo>
                  <a:lnTo>
                    <a:pt x="96304" y="125444"/>
                  </a:lnTo>
                  <a:lnTo>
                    <a:pt x="59520" y="95830"/>
                  </a:lnTo>
                  <a:lnTo>
                    <a:pt x="22735" y="125444"/>
                  </a:lnTo>
                  <a:lnTo>
                    <a:pt x="36785" y="77528"/>
                  </a:lnTo>
                  <a:lnTo>
                    <a:pt x="0" y="4791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89a4a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5-Point Star 8"/>
            <p:cNvSpPr/>
            <p:nvPr/>
          </p:nvSpPr>
          <p:spPr>
            <a:xfrm>
              <a:off x="6115320" y="5131080"/>
              <a:ext cx="118800" cy="125280"/>
            </a:xfrm>
            <a:custGeom>
              <a:avLst/>
              <a:gdLst/>
              <a:ahLst/>
              <a:rect l="l" t="t" r="r" b="b"/>
              <a:pathLst>
                <a:path w="119040" h="125445">
                  <a:moveTo>
                    <a:pt x="0" y="47916"/>
                  </a:moveTo>
                  <a:lnTo>
                    <a:pt x="45469" y="47916"/>
                  </a:lnTo>
                  <a:lnTo>
                    <a:pt x="59520" y="0"/>
                  </a:lnTo>
                  <a:lnTo>
                    <a:pt x="73571" y="47916"/>
                  </a:lnTo>
                  <a:lnTo>
                    <a:pt x="119040" y="47916"/>
                  </a:lnTo>
                  <a:lnTo>
                    <a:pt x="82254" y="77529"/>
                  </a:lnTo>
                  <a:lnTo>
                    <a:pt x="96305" y="125445"/>
                  </a:lnTo>
                  <a:lnTo>
                    <a:pt x="59520" y="95831"/>
                  </a:lnTo>
                  <a:lnTo>
                    <a:pt x="22735" y="125445"/>
                  </a:lnTo>
                  <a:lnTo>
                    <a:pt x="36786" y="77529"/>
                  </a:lnTo>
                  <a:lnTo>
                    <a:pt x="0" y="4791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89a4a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5-Point Star 9"/>
            <p:cNvSpPr/>
            <p:nvPr/>
          </p:nvSpPr>
          <p:spPr>
            <a:xfrm>
              <a:off x="5923080" y="4897800"/>
              <a:ext cx="118800" cy="125280"/>
            </a:xfrm>
            <a:custGeom>
              <a:avLst/>
              <a:gdLst/>
              <a:ahLst/>
              <a:rect l="l" t="t" r="r" b="b"/>
              <a:pathLst>
                <a:path w="119039" h="125444">
                  <a:moveTo>
                    <a:pt x="0" y="47915"/>
                  </a:moveTo>
                  <a:lnTo>
                    <a:pt x="45469" y="47916"/>
                  </a:lnTo>
                  <a:lnTo>
                    <a:pt x="59520" y="0"/>
                  </a:lnTo>
                  <a:lnTo>
                    <a:pt x="73570" y="47916"/>
                  </a:lnTo>
                  <a:lnTo>
                    <a:pt x="119039" y="47915"/>
                  </a:lnTo>
                  <a:lnTo>
                    <a:pt x="82254" y="77528"/>
                  </a:lnTo>
                  <a:lnTo>
                    <a:pt x="96304" y="125444"/>
                  </a:lnTo>
                  <a:lnTo>
                    <a:pt x="59520" y="95830"/>
                  </a:lnTo>
                  <a:lnTo>
                    <a:pt x="22735" y="125444"/>
                  </a:lnTo>
                  <a:lnTo>
                    <a:pt x="36785" y="77528"/>
                  </a:lnTo>
                  <a:lnTo>
                    <a:pt x="0" y="4791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89a4a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Box 11"/>
          <p:cNvSpPr/>
          <p:nvPr/>
        </p:nvSpPr>
        <p:spPr>
          <a:xfrm>
            <a:off x="210600" y="925560"/>
            <a:ext cx="87224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BHHF was recording data suitable for amplitude measurement by end of M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ay 22:35  BHHF 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2.3  regional stations 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ay 00:48  BHHF 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2.6  regional stations 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n’t trust magnitudes only recorded on nearby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8000" y="-41760"/>
            <a:ext cx="89280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agnitud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4"/>
          <p:cNvSpPr/>
          <p:nvPr/>
        </p:nvSpPr>
        <p:spPr>
          <a:xfrm>
            <a:off x="630360" y="5899320"/>
            <a:ext cx="7416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 traffic light monitoring system. ‘Stop’ limit set at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5 (www.gov.uk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uk-traffic.jpg"/>
          <p:cNvPicPr/>
          <p:nvPr/>
        </p:nvPicPr>
        <p:blipFill>
          <a:blip r:embed="rId1"/>
          <a:stretch/>
        </p:blipFill>
        <p:spPr>
          <a:xfrm>
            <a:off x="698400" y="378000"/>
            <a:ext cx="769320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1"/>
          <a:srcRect l="5318" t="3144" r="186" b="0"/>
          <a:stretch/>
        </p:blipFill>
        <p:spPr>
          <a:xfrm>
            <a:off x="17640" y="622440"/>
            <a:ext cx="4214520" cy="62262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4482000" y="1744560"/>
            <a:ext cx="459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2 UK earthquakes 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plitudes measured on 5 or more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at least 1 station closer than 20k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4480560" y="3205080"/>
            <a:ext cx="4277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 Manchester (2002) aftersh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 from the Borders sequence (200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from Blackpool (201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New Ollerton mining events (201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7 others close to a station (1993-201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4456080" y="5419800"/>
            <a:ext cx="42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53  Amplitudes from earthquakes with magnitude 0.6 ML to 3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atabase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223920" y="1108080"/>
            <a:ext cx="8578800" cy="5656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tation Magnitude Res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5"/>
          <p:cNvGrpSpPr/>
          <p:nvPr/>
        </p:nvGrpSpPr>
        <p:grpSpPr>
          <a:xfrm>
            <a:off x="215640" y="2529000"/>
            <a:ext cx="6283080" cy="4230720"/>
            <a:chOff x="215640" y="2529000"/>
            <a:chExt cx="6283080" cy="4230720"/>
          </a:xfrm>
        </p:grpSpPr>
        <p:pic>
          <p:nvPicPr>
            <p:cNvPr id="159" name="Picture 3" descr=""/>
            <p:cNvPicPr/>
            <p:nvPr/>
          </p:nvPicPr>
          <p:blipFill>
            <a:blip r:embed="rId1"/>
            <a:srcRect l="0" t="19087" r="70630" b="19160"/>
            <a:stretch/>
          </p:blipFill>
          <p:spPr>
            <a:xfrm rot="5400000">
              <a:off x="1241640" y="1502640"/>
              <a:ext cx="4230720" cy="62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Rectangle 4"/>
            <p:cNvSpPr/>
            <p:nvPr/>
          </p:nvSpPr>
          <p:spPr>
            <a:xfrm>
              <a:off x="5432400" y="2827440"/>
              <a:ext cx="536400" cy="46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9"/>
          <p:cNvSpPr/>
          <p:nvPr/>
        </p:nvSpPr>
        <p:spPr>
          <a:xfrm>
            <a:off x="1346400" y="1636560"/>
            <a:ext cx="490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distance (k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1.11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0.00185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utton and Boore, 198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-1.16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6499080" y="4125960"/>
            <a:ext cx="2403720" cy="642600"/>
            <a:chOff x="6499080" y="4125960"/>
            <a:chExt cx="2403720" cy="642600"/>
          </a:xfrm>
        </p:grpSpPr>
        <p:sp>
          <p:nvSpPr>
            <p:cNvPr id="163" name="TextBox 10"/>
            <p:cNvSpPr/>
            <p:nvPr/>
          </p:nvSpPr>
          <p:spPr>
            <a:xfrm>
              <a:off x="6499080" y="4125960"/>
              <a:ext cx="240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MS resid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.33      0.28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ight Arrow 12"/>
            <p:cNvSpPr/>
            <p:nvPr/>
          </p:nvSpPr>
          <p:spPr>
            <a:xfrm>
              <a:off x="7126200" y="4476960"/>
              <a:ext cx="225360" cy="189000"/>
            </a:xfrm>
            <a:prstGeom prst="rightArrow">
              <a:avLst>
                <a:gd name="adj1" fmla="val 50000"/>
                <a:gd name="adj2" fmla="val 49997"/>
              </a:avLst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9280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New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Rectangle 2" descr=""/>
          <p:cNvPicPr/>
          <p:nvPr/>
        </p:nvPicPr>
        <p:blipFill>
          <a:blip r:embed="rId2"/>
          <a:stretch/>
        </p:blipFill>
        <p:spPr>
          <a:xfrm>
            <a:off x="212760" y="950760"/>
            <a:ext cx="862020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Content Placeholder 3" descr=""/>
          <p:cNvPicPr/>
          <p:nvPr/>
        </p:nvPicPr>
        <p:blipFill>
          <a:blip r:embed="rId1"/>
          <a:srcRect l="0" t="0" r="0" b="5812"/>
          <a:stretch/>
        </p:blipFill>
        <p:spPr>
          <a:xfrm>
            <a:off x="4716360" y="3973680"/>
            <a:ext cx="4319640" cy="2874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0" r="0" b="6104"/>
          <a:stretch/>
        </p:blipFill>
        <p:spPr>
          <a:xfrm>
            <a:off x="66600" y="3973680"/>
            <a:ext cx="4321080" cy="286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79200" y="569880"/>
            <a:ext cx="4319640" cy="3051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4"/>
          <a:stretch/>
        </p:blipFill>
        <p:spPr>
          <a:xfrm>
            <a:off x="4780080" y="569880"/>
            <a:ext cx="4319640" cy="30513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"/>
          <p:cNvSpPr/>
          <p:nvPr/>
        </p:nvSpPr>
        <p:spPr>
          <a:xfrm>
            <a:off x="152280" y="20520"/>
            <a:ext cx="88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ONOR2 deployment in Northern No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664 amplitudes  from 617 earthquakes with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L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0.4 and 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0" y="3389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atrice aftersh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2045 observations from 287 earthquakes with ML between 0.4 and 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2741400" y="27446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MS = 0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7439040" y="27446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MS = 0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2741400" y="61596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MS = 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7423200" y="61596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MS = 0.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6239880" y="8730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=-0.74, D=0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6165000" y="411336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=-3.05, D=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6"/>
          <p:cNvGrpSpPr/>
          <p:nvPr/>
        </p:nvGrpSpPr>
        <p:grpSpPr>
          <a:xfrm>
            <a:off x="4660920" y="3510000"/>
            <a:ext cx="3490920" cy="2822400"/>
            <a:chOff x="4660920" y="3510000"/>
            <a:chExt cx="3490920" cy="2822400"/>
          </a:xfrm>
        </p:grpSpPr>
        <p:grpSp>
          <p:nvGrpSpPr>
            <p:cNvPr id="180" name="Group 17"/>
            <p:cNvGrpSpPr/>
            <p:nvPr/>
          </p:nvGrpSpPr>
          <p:grpSpPr>
            <a:xfrm>
              <a:off x="4660920" y="3510000"/>
              <a:ext cx="3490920" cy="2822400"/>
              <a:chOff x="4660920" y="3510000"/>
              <a:chExt cx="3490920" cy="2822400"/>
            </a:xfrm>
          </p:grpSpPr>
          <p:pic>
            <p:nvPicPr>
              <p:cNvPr id="181" name="Picture 19" descr=""/>
              <p:cNvPicPr/>
              <p:nvPr/>
            </p:nvPicPr>
            <p:blipFill>
              <a:blip r:embed="rId1"/>
              <a:srcRect l="62763" t="0" r="5470" b="31725"/>
              <a:stretch/>
            </p:blipFill>
            <p:spPr>
              <a:xfrm>
                <a:off x="4858200" y="3510000"/>
                <a:ext cx="3293640" cy="28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Rectangle 20"/>
              <p:cNvSpPr/>
              <p:nvPr/>
            </p:nvSpPr>
            <p:spPr>
              <a:xfrm>
                <a:off x="4829040" y="3774960"/>
                <a:ext cx="395280" cy="33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1"/>
              <p:cNvSpPr/>
              <p:nvPr/>
            </p:nvSpPr>
            <p:spPr>
              <a:xfrm>
                <a:off x="4660920" y="5676840"/>
                <a:ext cx="3952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Rectangle 18"/>
            <p:cNvSpPr/>
            <p:nvPr/>
          </p:nvSpPr>
          <p:spPr>
            <a:xfrm>
              <a:off x="5403600" y="4786200"/>
              <a:ext cx="826920" cy="83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11" descr=""/>
          <p:cNvPicPr/>
          <p:nvPr/>
        </p:nvPicPr>
        <p:blipFill>
          <a:blip r:embed="rId2"/>
          <a:srcRect l="8680" t="10213" r="8047" b="4397"/>
          <a:stretch/>
        </p:blipFill>
        <p:spPr>
          <a:xfrm>
            <a:off x="106200" y="252360"/>
            <a:ext cx="3803760" cy="6410520"/>
          </a:xfrm>
          <a:prstGeom prst="rect">
            <a:avLst/>
          </a:prstGeom>
          <a:ln w="0">
            <a:noFill/>
          </a:ln>
        </p:spPr>
      </p:pic>
      <p:sp>
        <p:nvSpPr>
          <p:cNvPr id="186" name="Straight Connector 5"/>
          <p:cNvSpPr/>
          <p:nvPr/>
        </p:nvSpPr>
        <p:spPr>
          <a:xfrm>
            <a:off x="696960" y="5226120"/>
            <a:ext cx="0" cy="37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7"/>
          <p:cNvSpPr/>
          <p:nvPr/>
        </p:nvSpPr>
        <p:spPr>
          <a:xfrm>
            <a:off x="1054080" y="1176480"/>
            <a:ext cx="0" cy="37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rcRect l="5616" t="8670" r="7616" b="0"/>
          <a:stretch/>
        </p:blipFill>
        <p:spPr>
          <a:xfrm>
            <a:off x="4425840" y="31680"/>
            <a:ext cx="4407120" cy="34783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3"/>
          <p:cNvSpPr/>
          <p:nvPr/>
        </p:nvSpPr>
        <p:spPr>
          <a:xfrm>
            <a:off x="204840" y="428760"/>
            <a:ext cx="14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LA.H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4"/>
          <p:cNvSpPr/>
          <p:nvPr/>
        </p:nvSpPr>
        <p:spPr>
          <a:xfrm>
            <a:off x="214200" y="234936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LA.H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5"/>
          <p:cNvSpPr/>
          <p:nvPr/>
        </p:nvSpPr>
        <p:spPr>
          <a:xfrm>
            <a:off x="204840" y="4272120"/>
            <a:ext cx="14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LA.H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2"/>
          <p:cNvSpPr/>
          <p:nvPr/>
        </p:nvSpPr>
        <p:spPr>
          <a:xfrm>
            <a:off x="5710320" y="6348240"/>
            <a:ext cx="20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Myers, et al (199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476640" y="5527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4"/>
          <p:cNvSpPr/>
          <p:nvPr/>
        </p:nvSpPr>
        <p:spPr>
          <a:xfrm>
            <a:off x="812880" y="14810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5:13:52Z</dcterms:created>
  <dc:creator>rrl</dc:creator>
  <dc:description/>
  <dc:language>en-US</dc:language>
  <cp:lastModifiedBy>rrl</cp:lastModifiedBy>
  <dcterms:modified xsi:type="dcterms:W3CDTF">2017-04-05T08:26:30Z</dcterms:modified>
  <cp:revision>492</cp:revision>
  <dc:subject/>
  <dc:title>Slide 1</dc:title>
</cp:coreProperties>
</file>